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FA0-BB06-4A2E-B681-FA8B7DE3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D20-33EC-4ADC-AF46-4BACDDCD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D0878-F94A-43D7-B2B0-FAC2BE3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F9FF0-8AE9-4072-9DE1-080E1AA4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321AB-0848-4737-A51E-D75ED483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77690-830A-4C1E-82A3-D47A155A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89EB0-69CD-4DE6-9B69-DCF505F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A3E90-8DB9-4222-867C-791E224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16DE9-A47C-4936-91D0-BB664D12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B5C6B-97CA-4352-A20F-3F8D68A2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886DF-DBE1-4C34-831C-C6F6110E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D34E8-A3EC-46E1-93D7-0479658F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E8B-A3E8-4AF5-8103-F0671F43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86BB4-EB6A-4791-B849-02093465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9C5B0-986B-4182-994C-281D3782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6CFB2-3607-4064-9DD7-1813166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DB4BB-4248-4AF7-AA54-EEB84014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3AEF2-F580-4ADD-9F7B-F2E2E86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45CCC-ADD4-47F3-A88B-094DBB60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341F1-1A59-4458-93FC-8B8D596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73707-970E-404A-B6D9-4CFAB5B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33E77-95BF-4262-A1F4-DDB85D00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B3F6D-51C2-416E-847E-DBEA9710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462-10B2-40C2-A6A2-ACF28E5F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348BD-29DB-4AE8-A289-E0637F26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F5BD6-A3C1-4D00-8FF0-797AB780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200D8-E8C5-467A-9941-25C76F04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39A62-4C4D-412E-A8D8-4A4206C3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9F38D-0FC2-45BA-95B0-9AE6DC1C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1D151-7D3E-4620-B9A4-4E87F056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51685-69BC-4E2D-8006-6E31FF09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1273A-6717-4386-B5BE-0A91706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C3347-3946-4E5A-800E-9C46267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2F778-0F34-4327-BC51-BB522B1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7E8C-62F4-42D2-A484-F64513AF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868CC-1D09-4ADC-B4DC-997A2D06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6862-719F-4ED6-841C-6C603CB8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34132-E6F8-4F00-B0AA-C56E2F57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DA411-9807-4118-B280-3B8E6C8A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8523E-3C03-46D2-9620-8ABC62D8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F52A6-CA9E-4D6B-AF91-922A5D79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BE890-719F-471C-BA43-E767C556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27526-C25D-4F30-98E1-6DAE9FAA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CF652-F05A-481D-BC24-39E5A22E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003C0-E29C-4AC8-BE0D-A515869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BBE2-2D7A-47B0-83FE-BB0E42A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CD381-399D-4FC7-AAA7-8031BF42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5A31A-F831-4CFD-8879-4D50442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8B2BB-71E3-4ACE-8954-589EC6D2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9E918-D4AA-4459-AC7E-C00B4F3A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DB854-7C27-4F56-BC1F-E1BB770F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9520-D45F-49B2-9FDA-E48B1410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27AB-B344-43A3-9023-FE24A4C2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5BC-FB4E-4AD2-A12E-67ED16D5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BA79-9E4F-4725-B5A7-F9004311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1B3F-4F84-4422-9FED-19D957E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C88-70BD-4155-97A9-23437410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3761-606E-48D8-8630-C6E9ECA9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6235-4D02-4F59-B9DF-3D12DBEB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ED2A-80B4-46CC-9075-9B452302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A6D2-E248-4199-B2C1-2968C6F0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9D0E-E97E-4106-8CC6-E9E4B77A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FB86-EC0B-435E-A33E-6FC1FA2E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1AB6-4BB7-4A61-AA0A-ED2C3E4C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D832-1FE5-4DD7-B317-47E58892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3C21-DCFC-4FE8-A8A0-A4FFA9F9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A6BD-5644-4034-8149-ED01F8C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CD4-89CD-46B7-8A9F-4CB01D2F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D8BF-DA4E-4EFB-B7AB-4F4B2C04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DB0F-C322-4F83-9D59-1699B9B3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4E6A-3206-436B-BEB2-DBB74F10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30FE-B25C-4552-B14A-33E9FD8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485C-65A0-44F1-9F56-B961C822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03EA-BF47-4C10-B780-0BBAA73A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B792-DC40-4BBF-BE9E-DCDEE002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5526-DFB2-4693-B8E8-7010FDCB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EA8A-83BB-40B8-BDF0-E3A5356C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D367B-B27B-436F-8F15-880E9736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D96-D136-487B-9461-7FF0A79D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294A0-815C-4A56-A9BB-23BB1854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A9A4-8A1E-4A28-AFA1-DA112D3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B9D5-910D-4A64-9856-08EE5F81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A9DA3-F494-4B00-BC9D-906A266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942C-7C1F-4736-BE30-49EFDB3F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EDE8-CBF1-4B08-AB27-229CBC7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F313-6374-4FCF-B751-DB34749B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D8C3-371D-4053-84A4-2E8E6478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3446E-8422-4BC6-A3FA-E9588C04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B78C8-A14A-4E71-B723-995B649C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3F9-18D1-4D96-83A7-A2466494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16A1A-F128-4888-873E-6DC0FB0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6A166-0256-4FAB-8D16-CACF04A3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04E56-468B-4882-BF59-ADC48F67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10612-7911-450C-BEA7-21CC9D80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21937-F20E-405D-90FE-596954A2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AF394-60DB-4BEE-8184-DE0CC74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3903E-4ADC-409E-A7AB-0AE777F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3D3CB-8C3E-4145-A9E9-6CD737DC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8F16-7B04-4432-96F0-39CD5855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596F-7D11-4AB8-AFFF-86431D19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C45-8752-4545-9C71-955EDFB7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76E76-D4A7-4FA5-86BA-6A4C5FE6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E32B2-1A11-4ABF-AC3C-33086AA8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88044-740D-45F7-A2CB-E7334728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2AACA-03BF-488B-BED8-0FBBAA95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935C-7794-42E7-87D6-37795714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B81F-EF57-45D9-ADD5-E6296151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742A2-E340-4A97-B236-563C71E2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B8F50-DBB7-4EDC-A1DB-4BA6026E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8CC80-2E23-4676-A0FC-1E8A9BA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70702-D301-4890-96B3-CBA8DE71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5DF-C46F-40B9-BF3C-49B8AA1F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F46B-FFDE-4CC5-85A2-EB031E87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C2A3D-DC07-464D-B542-C08AC985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58CE-AF8C-4F38-A4B4-2948DB51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76D5D-97FB-4AF3-88AA-904FB371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E7C69-BBA8-4E70-A4B1-1C7FCC34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63482-3713-49B2-8A64-3DC05C15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5A3BB-AD69-48E7-9CD3-5A44753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C4AA0-9A66-41A7-91A7-8B6F7CC9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E55CC-7103-4EBE-8904-31DE85E9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E890D-866B-4BC6-A41A-4C9A523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06E-337E-4C77-8E2C-384CB592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0DD0C-FFE3-4D8B-8F2D-49028E5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93E5-59AC-4A04-806C-BF7D6DB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19A4C-86FC-4FB8-AD05-29CCFCEF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069DA-76A8-41F9-B54D-61F1F9B1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2A79-95A3-444E-BD77-2193A2E2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D72A8-8789-4520-85F1-9614D50E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3F972-2F86-4A10-BB10-7003439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FD24F-D424-45E9-BD43-7F7BF83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2ABB0-73DB-4741-8ED1-E5F6B0B6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3B52B-0F2C-4062-B350-425BBD9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B46-2569-407F-B1D4-85F9259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6A6ED-4BB5-4CE6-A5B7-3FD54A23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6074D-23FE-49E8-B9D3-3B563446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59D74-A7FB-4D75-AC9F-95D93220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F8E5F-EDD9-4394-B4B0-7D8A973D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BC484-45BD-4951-BDFC-63289324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36DC-6B8F-4B24-B7BA-4DE2B970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AB60E-E642-4953-913D-BEC4592C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F763A-C172-45E5-A17E-94BF37FF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0327A-2B62-495F-BECE-37D6209C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DF82A-7CAD-4E3D-9648-9818BFFA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5DF-52E5-440E-85CE-B829255C3A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DB1881ED-98E1-4C22-AED2-AED02A58A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034E-163F-4AB5-999D-689F8390C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ED90-C7F0-47EE-B216-9C02047DC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8282-74A6-4FB9-BF61-91CCCA52EB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13BC-166A-4845-A67D-FAA0D4194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7989-AA10-4AE3-936C-869040850D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36B9-39FC-4ADC-B901-A9AB23542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EDF4-2F81-4FA1-9096-284FF5EDA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C747-406A-4DCA-9D98-BC622CC29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D889-8CC2-4607-8A15-FFDF684DD6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9E80-5857-435B-96F7-B72310AF5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831B-F4BD-46BC-9F7D-3BAE45294C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9E46-04E0-4544-B015-FE7510945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B61E-7B8E-4A7E-93EE-8AA0768B62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01EB-DA51-45BD-B68D-60C31DD1C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8C0-84C4-4B2A-93E7-FE4A883761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8299-C738-4737-9E75-A3A6BAE92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630D-A024-4AB5-A977-984560296E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220C-E699-48D5-B251-CF32C8040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448C-DFEA-4220-90AB-795CADC05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86A9-FDAC-45DB-B8AF-0C810C307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4CFC-3760-4824-8D1C-F1810AD6F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C92E-D93D-4F6A-ABF0-05C415392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ril 6,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mar Urquide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734A-D16C-4D3A-A631-16ABE43CB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/6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 of the PGDTF in M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684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WG reviewed 057PGRR Impact Analysis (R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on March 16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IC model known submission errors and a plan for model valid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PGDTF 2017 Goal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egan discussion on Assessment/Model (TPL-007-1 R2) building timeline and Vulnerability Assessment (TPL-007-1 R4) Scope/Criteria (TPL-007-1 R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National and State Activities Related to GM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RC GMD SDT new language for TPL-007-1 including magnetometer data requirements and additional enhanced vulnerability assessmen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PGDTF Contact List for improved communication and collab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GDTF will meet April 2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mar Urquidez – 4/6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4314-D06E-4E80-ACB3-26DB955E8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7 PGDTF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1 PGRR Approv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: Board Approval at June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C Deadline July 1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GDTF Contact L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b050"/>
                </a:solidFill>
                <a:latin typeface="Calibri"/>
              </a:rPr>
              <a:t>GIC Model Completion &amp; Revie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b050"/>
                </a:solidFill>
                <a:latin typeface="Calibri"/>
              </a:rPr>
              <a:t>Assessment/Model Building Timeline Recommend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b050"/>
                </a:solidFill>
                <a:latin typeface="Calibri"/>
              </a:rPr>
              <a:t>Vulnerability Assessment Scope/Criteria Recommend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b050"/>
                </a:solidFill>
                <a:latin typeface="Calibri"/>
              </a:rPr>
              <a:t>Procedure Manual Upd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rrective Action Plan development and “approval” process Recommend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ooter Placeholder 7"/>
          <p:cNvSpPr/>
          <p:nvPr/>
        </p:nvSpPr>
        <p:spPr>
          <a:xfrm>
            <a:off x="3124080" y="635652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mar Urquidez – 4/6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"/>
          <p:cNvSpPr/>
          <p:nvPr/>
        </p:nvSpPr>
        <p:spPr>
          <a:xfrm>
            <a:off x="5257800" y="60199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***Current Active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e for Creating GIC System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/31/2016 – TSP Data for 345 kV System Based on 2021 Summer Peak Case Released on 10/15/2016 Provided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/31/2017 – TSP Data for 138 kV and 69 kV Systems and Update to 345 kV System Data Based on 2021 Summer Peak Case Released on 10/15/2016 Due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6/30/2017 – REs’ Updated RARF with GIC System Model Data Due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Delaye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6/1/2017 – ERCOT Provides First Pass of GIC System Model for Review to TSPs and REs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Delaye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7/1/2017 – TSPs and REs Provide GIC Model Changes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Delaye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quent Model Review Passes Will be Scheduled a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1/2018 – Complete 2021 Summer Peak and 2021 Minimum GIC System Models Using July 2017 SSWG 2021 Summer Peak and 2021 Minimum Base Cases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Possible Delay- NERC Deadline 7/1/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2"/>
          <p:cNvSpPr/>
          <p:nvPr/>
        </p:nvSpPr>
        <p:spPr>
          <a:xfrm>
            <a:off x="3124080" y="635652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mar Urquidez – 4/6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128D-D8AC-469A-924F-FDF8AFF2B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933B-1F00-4AA5-BFA7-4227FE476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mar Urquidez – 4/6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Urquidez, Omar A</cp:lastModifiedBy>
  <dcterms:modified xsi:type="dcterms:W3CDTF">2017-04-03T19:42:08Z</dcterms:modified>
  <cp:revision>224</cp:revision>
  <dc:subject/>
  <dc:title>PGDTF Update to ROS</dc:title>
</cp:coreProperties>
</file>